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91E6-1E85-49C5-962C-D3CD3FF04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9F48-DFED-4CD2-9321-2711F83A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D3DB-110D-4F0B-8146-FD1DB7F98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8161-2AD5-4CEF-90B4-B1C4D0329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DF67-4B4F-48FA-88B9-2B104ECE9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FEF9-9B21-40D8-A90A-8294C8275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EC40-FD03-4085-9C92-6BDE0E28D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927C-82F3-42AB-A6F0-885F70BC9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DF55-FFD0-4FE7-BF04-60E790D38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D297-4368-45AE-9AFE-CB6BABD9B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98C5-F54B-466F-931A-33A43FF12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6DC1-275E-467E-A318-A83546B48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8233-9D92-4299-A66F-6BDF159C8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D2DC-14A6-41B3-BB2E-9C7E976FE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A709-21CE-4A07-800B-42D59A654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0903-7B8B-44C4-BD05-5708DF553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2876-54A8-4191-A1DD-D5ADC5EB8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6446-79E5-48D1-870A-013511955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CA21-7E2F-4660-9A73-DB3F87A09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AA76-A2F1-4E07-8D33-0C23A79F7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4E036-AC8A-421D-931F-C4C59886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A677-8B2A-4011-8599-44A8D5D8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32C2D-8D0B-4027-AEA2-ADDDC1FCA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C16EA-C984-4887-87C3-1F97A2620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1D789-325C-4642-B495-128FF76E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BD021-CB3C-4901-863C-B94E2228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CCE5-4F41-4868-86CA-504096F8F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C3A1-0C7B-4DEC-893E-DE0C4C79D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41D28-E847-42C7-B2FD-214ED936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F2F8-EBEC-4D5B-A1D2-12D39FA4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C935-5C23-41ED-B549-4EEE5926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A23B-CAF1-4E84-BD88-CED7BF4C4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7971-9FC1-48DE-B0B5-A6041F92B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
          <p:cNvGraphicFramePr/>
          <p:nvPr/>
        </p:nvGraphicFramePr>
        <p:xfrm>
          <a:off x="563400" y="3429000"/>
          <a:ext cx="8009280" cy="3043080"/>
        </p:xfrm>
        <a:graphic>
          <a:graphicData uri="http://schemas.openxmlformats.org/presentationml/2006/ole">
            <p:oleObj r:id="rId2" spid="">
              <p:embed/>
              <p:pic>
                <p:nvPicPr>
                  <p:cNvPr id="81" name=""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Rachelle</cp:lastModifiedBy>
  <dcterms:modified xsi:type="dcterms:W3CDTF">2010-03-08T08:10:18Z</dcterms:modified>
  <cp:revision>120</cp:revision>
  <dc:subject/>
  <dc:title>Wikispaces for Teachers A guide to using them in your classroom</dc:title>
</cp:coreProperties>
</file>